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by102.wav" ContentType="audio/x-wav"/>
  <Override PartName="/ppt/media/caralarmoff.wav" ContentType="audio/x-wav"/>
  <Override PartName="/ppt/media/highchime.wav" ContentType="audio/x-wav"/>
  <Override PartName="/ppt/media/hzipup01.wav" ContentType="audio/x-wav"/>
  <Override PartName="/ppt/media/jetflyby2.wav" ContentType="audio/x-wav"/>
  <Override PartName="/ppt/media/lzipup01.wav" ContentType="audio/x-wav"/>
  <Override PartName="/ppt/media/bserie06.wav" ContentType="audio/x-wav"/>
  <Override PartName="/ppt/media/image2.gif" ContentType="image/gif"/>
  <Override PartName="/ppt/media/zapvib04.wav" ContentType="audio/x-wav"/>
  <Override PartName="/ppt/media/zipdn102.wav" ContentType="audio/x-wav"/>
  <Override PartName="/ppt/media/meepmeep.wav" ContentType="audio/x-wav"/>
  <Override PartName="/ppt/media/zapbig0g.wav" ContentType="audio/x-wav"/>
  <Override PartName="/ppt/media/image1.gif" ContentType="image/gif"/>
  <Override PartName="/ppt/media/image3.gif" ContentType="image/gif"/>
  <Override PartName="/ppt/media/boinng04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0E9-05DD-42A9-A597-129DB2E8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86A-27F9-4F8B-91D8-94F3BDCA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A77-5E12-474E-A7C9-CBE83B7A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DF2-A6E1-4109-9D2A-5639E193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B46-4C63-4540-A8EE-21D1C225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C07-2880-4850-B056-4AEC2684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27A-E9F5-4A37-8D16-BE8E127C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851C-5E9D-4685-BF9C-76DBDE3D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73A0-8CF1-490D-B2A1-CBB0BB66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7D2-5162-4948-998E-920D0249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C9C-DCF6-4C4A-B2BB-08A776C0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B8FC-B0CD-4D28-A8B9-8C0B5217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67DF-AD91-4167-B84F-44EBC4A4D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zipdn102.wav"/><Relationship Id="rId6" Type="http://schemas.openxmlformats.org/officeDocument/2006/relationships/audio" Target="../media/highchime.wav"/><Relationship Id="rId7" Type="http://schemas.openxmlformats.org/officeDocument/2006/relationships/audio" Target="../media/zipdn102.wav"/><Relationship Id="rId8" Type="http://schemas.openxmlformats.org/officeDocument/2006/relationships/audio" Target="../media/zapbig0g.wav"/><Relationship Id="rId9" Type="http://schemas.openxmlformats.org/officeDocument/2006/relationships/audio" Target="../media/meepmeep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oinng04.wav"/><Relationship Id="rId13" Type="http://schemas.openxmlformats.org/officeDocument/2006/relationships/audio" Target="../media/zapvib04.wav"/><Relationship Id="rId14" Type="http://schemas.openxmlformats.org/officeDocument/2006/relationships/audio" Target="../media/zapbig0g.wav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highchime.wav"/><Relationship Id="rId6" Type="http://schemas.openxmlformats.org/officeDocument/2006/relationships/audio" Target="../media/zipdn102.wav"/><Relationship Id="rId7" Type="http://schemas.openxmlformats.org/officeDocument/2006/relationships/audio" Target="../media/zapbig0g.wav"/><Relationship Id="rId8" Type="http://schemas.openxmlformats.org/officeDocument/2006/relationships/audio" Target="../media/meepmeep.wav"/><Relationship Id="rId9" Type="http://schemas.openxmlformats.org/officeDocument/2006/relationships/audio" Target="../media/zipdn102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oinng04.wav"/><Relationship Id="rId13" Type="http://schemas.openxmlformats.org/officeDocument/2006/relationships/audio" Target="../media/zapbig0g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zipby102.wav"/><Relationship Id="rId3" Type="http://schemas.openxmlformats.org/officeDocument/2006/relationships/audio" Target="../media/caralarmoff.wav"/><Relationship Id="rId4" Type="http://schemas.openxmlformats.org/officeDocument/2006/relationships/audio" Target="../media/caralarmoff.wav"/><Relationship Id="rId5" Type="http://schemas.openxmlformats.org/officeDocument/2006/relationships/audio" Target="../media/highchime.wav"/><Relationship Id="rId6" Type="http://schemas.openxmlformats.org/officeDocument/2006/relationships/audio" Target="../media/bserie06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ipdn102.wav"/><Relationship Id="rId12" Type="http://schemas.openxmlformats.org/officeDocument/2006/relationships/audio" Target="../media/jetflyby2.wav"/><Relationship Id="rId13" Type="http://schemas.openxmlformats.org/officeDocument/2006/relationships/audio" Target="../media/zipdn102.wav"/><Relationship Id="rId14" Type="http://schemas.openxmlformats.org/officeDocument/2006/relationships/audio" Target="../media/jetflyby2.wav"/><Relationship Id="rId15" Type="http://schemas.openxmlformats.org/officeDocument/2006/relationships/audio" Target="../media/hzipup01.wav"/><Relationship Id="rId16" Type="http://schemas.openxmlformats.org/officeDocument/2006/relationships/audio" Target="../media/zapvib04.wav"/><Relationship Id="rId17" Type="http://schemas.openxmlformats.org/officeDocument/2006/relationships/audio" Target="../media/hzipup01.wav"/><Relationship Id="rId18" Type="http://schemas.openxmlformats.org/officeDocument/2006/relationships/audio" Target="../media/zapvib04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audio" Target="../media/caralarmoff.wav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ipdn102.wav"/><Relationship Id="rId9" Type="http://schemas.openxmlformats.org/officeDocument/2006/relationships/audio" Target="../media/jetflyby2.wav"/><Relationship Id="rId10" Type="http://schemas.openxmlformats.org/officeDocument/2006/relationships/audio" Target="../media/zipdn102.wav"/><Relationship Id="rId11" Type="http://schemas.openxmlformats.org/officeDocument/2006/relationships/audio" Target="../media/jetflyby2.wav"/><Relationship Id="rId12" Type="http://schemas.openxmlformats.org/officeDocument/2006/relationships/audio" Target="../media/hzipup01.wav"/><Relationship Id="rId13" Type="http://schemas.openxmlformats.org/officeDocument/2006/relationships/audio" Target="../media/zapvib04.wav"/><Relationship Id="rId14" Type="http://schemas.openxmlformats.org/officeDocument/2006/relationships/audio" Target="../media/hzipup01.wav"/><Relationship Id="rId15" Type="http://schemas.openxmlformats.org/officeDocument/2006/relationships/audio" Target="../media/zapvib04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caralarmoff.wav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ipdn102.wav"/><Relationship Id="rId9" Type="http://schemas.openxmlformats.org/officeDocument/2006/relationships/audio" Target="../media/jetflyby2.wav"/><Relationship Id="rId10" Type="http://schemas.openxmlformats.org/officeDocument/2006/relationships/audio" Target="../media/zipdn102.wav"/><Relationship Id="rId11" Type="http://schemas.openxmlformats.org/officeDocument/2006/relationships/audio" Target="../media/jetflyby2.wav"/><Relationship Id="rId12" Type="http://schemas.openxmlformats.org/officeDocument/2006/relationships/audio" Target="../media/hzipup01.wav"/><Relationship Id="rId13" Type="http://schemas.openxmlformats.org/officeDocument/2006/relationships/audio" Target="../media/zapvib04.wav"/><Relationship Id="rId14" Type="http://schemas.openxmlformats.org/officeDocument/2006/relationships/audio" Target="../media/hzipup01.wav"/><Relationship Id="rId15" Type="http://schemas.openxmlformats.org/officeDocument/2006/relationships/audio" Target="../media/zapvib04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caralarmoff.wav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291960" y="1695600"/>
                <a:ext cx="1670040" cy="17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ercents and Fr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525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Georgia"/>
              </a:rPr>
              <a:t>Write a percent for each fra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50000" y="1873080"/>
            <a:ext cx="329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write a fraction as a percent, change it into a decimal and move the decimal 2 places to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50000" y="4915080"/>
            <a:ext cx="329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o change it into a decimal simply div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98320" y="3854520"/>
                <a:ext cx="8258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428840" y="3978360"/>
                <a:ext cx="5666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044800" y="3846600"/>
                <a:ext cx="8794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648240" y="3841920"/>
                <a:ext cx="10681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890800" y="4013280"/>
                <a:ext cx="566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486160" y="4973760"/>
                <a:ext cx="16272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3" name=""/>
          <p:cNvCxnSpPr/>
          <p:nvPr/>
        </p:nvCxnSpPr>
        <p:spPr>
          <a:xfrm flipV="1" rot="16200000">
            <a:off x="4426200" y="426744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4" name=""/>
          <p:cNvCxnSpPr/>
          <p:nvPr/>
        </p:nvCxnSpPr>
        <p:spPr>
          <a:xfrm flipV="1" rot="16200000">
            <a:off x="4903920" y="4257720"/>
            <a:ext cx="6840" cy="484920"/>
          </a:xfrm>
          <a:prstGeom prst="curvedConnector5">
            <a:avLst>
              <a:gd name="adj1" fmla="val -3350000"/>
              <a:gd name="adj2" fmla="val 50000"/>
              <a:gd name="adj3" fmla="val -3350000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5132520" y="441324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613400" y="3821040"/>
                <a:ext cx="560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68200" y="1695600"/>
                <a:ext cx="1719360" cy="17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ercents and Fr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3525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Georgia"/>
              </a:rPr>
              <a:t>Write a percent for each fra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50000" y="1873080"/>
            <a:ext cx="329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write a fraction as a percent, change it into a decimal and move the decimal 2 places to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50000" y="4915080"/>
            <a:ext cx="329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o change it into a decimal simply div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98320" y="3854520"/>
                <a:ext cx="8258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428840" y="3978360"/>
                <a:ext cx="5666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044800" y="3846600"/>
                <a:ext cx="8794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15800" y="4697280"/>
                <a:ext cx="3205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357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890800" y="4013280"/>
                <a:ext cx="566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675240" y="5365800"/>
                <a:ext cx="16268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9" name=""/>
          <p:cNvCxnSpPr/>
          <p:nvPr/>
        </p:nvCxnSpPr>
        <p:spPr>
          <a:xfrm flipV="1" rot="16200000">
            <a:off x="2117880" y="582156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0" name=""/>
          <p:cNvCxnSpPr/>
          <p:nvPr/>
        </p:nvCxnSpPr>
        <p:spPr>
          <a:xfrm flipV="1" rot="16200000">
            <a:off x="2595600" y="581220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2824200" y="596736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328760" y="5430960"/>
                <a:ext cx="14238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roblem Solving: Using Propor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Use a proportion to solve each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814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3 pounds of asparagus cost $5, how many pounds can you buy for $20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810400" y="2374920"/>
            <a:ext cx="3333600" cy="2047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679320" y="3059280"/>
                <a:ext cx="4354560" cy="14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oun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oun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27040" y="4560840"/>
                <a:ext cx="2665440" cy="17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96840" y="5423040"/>
                <a:ext cx="4604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373480" y="4691160"/>
                <a:ext cx="506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203560" y="5408640"/>
                <a:ext cx="8287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043680" y="4433760"/>
                <a:ext cx="156852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923000" y="4444920"/>
                <a:ext cx="9540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1363680" y="4983120"/>
            <a:ext cx="912960" cy="771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457280" y="5046840"/>
            <a:ext cx="928800" cy="65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00520" y="521352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059440" y="5210280"/>
                <a:ext cx="560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419880" y="521964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778800" y="5216400"/>
                <a:ext cx="56016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043520" y="6181560"/>
                <a:ext cx="12366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46640" y="6068880"/>
                <a:ext cx="8985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6164280" y="6156360"/>
            <a:ext cx="236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Georgia"/>
              </a:rPr>
              <a:t>Pou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029360" y="1568520"/>
            <a:ext cx="2114640" cy="2114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roblem Solving: Using Propor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Use a proportion to solve each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814400"/>
            <a:ext cx="70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ty ounces of tomatoes cost $4. How much does 30 ounces co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62120" y="3059280"/>
                <a:ext cx="4189320" cy="14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unc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unc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27040" y="4560840"/>
                <a:ext cx="2665440" cy="17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74880" y="5445000"/>
                <a:ext cx="5061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235240" y="4622760"/>
                <a:ext cx="7826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363760" y="5478480"/>
                <a:ext cx="5065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994360" y="4406760"/>
                <a:ext cx="190512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645080" y="4430880"/>
                <a:ext cx="14032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496880" y="5049720"/>
            <a:ext cx="831960" cy="69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457280" y="5046840"/>
            <a:ext cx="849240" cy="65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00520" y="521352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35520" y="5210280"/>
                <a:ext cx="10080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580080" y="520704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715080" y="5203800"/>
                <a:ext cx="10080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043520" y="6181560"/>
                <a:ext cx="12366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494320" y="6012000"/>
                <a:ext cx="5605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051520" y="5996160"/>
            <a:ext cx="63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Georgia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047000" y="1712880"/>
            <a:ext cx="2097000" cy="2728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roblem Solving: Using Propor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Use a proportion to solve each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814400"/>
            <a:ext cx="763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walk 5 miles in 2 hours, how many miles can you walk in 6 hou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68480" y="3059280"/>
                <a:ext cx="3574800" cy="14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il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ur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il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ur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27040" y="4560840"/>
                <a:ext cx="2665440" cy="17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895320" y="5445000"/>
                <a:ext cx="5065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373480" y="4691160"/>
                <a:ext cx="506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387520" y="5408640"/>
                <a:ext cx="4604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043680" y="4433760"/>
                <a:ext cx="156852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894200" y="4444920"/>
                <a:ext cx="1011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363680" y="4983120"/>
            <a:ext cx="912960" cy="771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457280" y="5046840"/>
            <a:ext cx="928800" cy="65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00520" y="521352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032440" y="5237280"/>
                <a:ext cx="61596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6419880" y="521964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751800" y="5243400"/>
                <a:ext cx="6159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043520" y="6181560"/>
                <a:ext cx="12366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246640" y="6040440"/>
                <a:ext cx="8985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6164280" y="6156360"/>
            <a:ext cx="236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Georgia"/>
              </a:rPr>
              <a:t>m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37952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67, 10 – 12 #1-4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9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6-03-28T20:14:44Z</dcterms:modified>
  <cp:revision>95</cp:revision>
  <dc:subject/>
  <dc:title>Slide 1</dc:title>
</cp:coreProperties>
</file>